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508-4B99-466C-B809-551D2022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A18-7D73-408D-8706-6C2441E6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234-D607-4871-94EA-D5954053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4F7-B718-433C-8854-94E2EA94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937-4590-434E-AEF9-4FDFC4BB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74C-D1C4-4F6D-A8B8-F5A139F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FAC-849E-4C31-9AFA-03C4633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D26-3306-4B74-A0C7-CA9F4DD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586-3DB0-4EDA-92D5-B353DB92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FBE-CFB7-460C-85FE-250F4D5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44D-50F5-4EE6-A263-1FA4270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B82-95A8-4EB6-95D5-B71D9C4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B8D-3F55-4184-828D-C005EF50F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Design\portfolio\suicide_present\su_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325800">
            <a:off x="852480" y="909360"/>
            <a:ext cx="505152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ьезность намерения и реальная возможность совершить задум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серьезны намерения совершить самоубий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ли реальная возможность совершить самоубий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21325800">
            <a:off x="274320" y="-41400"/>
            <a:ext cx="63435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ье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смерти снижается с понижением уровня серьёзности человека (имеется ввиду в трезвом состоян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асколько СЕРЬЁЗНА угроза самоубий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выразительны его слова и эмо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решительны его действ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он себе да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ли человек в состоянии алкогольного или наркотического опьян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асколько ВСТРЕВОЖЕН потенциальный самоубийца?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грожает совершить суицид только на словах, или уже предпринимает какие-то действ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ли он контролировать свои поступ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 ли он в пустоту и молчи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ли он смотрит на орудие самоубий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ывается ли он от помощ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21325800">
            <a:off x="647640" y="914040"/>
            <a:ext cx="54403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человека использовать Количественные и Качественные сравнения, для того чтобы вызвать неуверенность и вол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цифры, цвета, вес, температуру, цвет, звук и т.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21325800">
            <a:off x="796680" y="913680"/>
            <a:ext cx="54403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чит с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ет вещ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ает вам или другим люд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есть орудие для самоубий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самоубийства?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21325800">
            <a:off x="796680" y="913680"/>
            <a:ext cx="54403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лавных достижения при переговорах с потенциальным самоубийцей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асение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асение жизни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асение жиз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диагно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айте сов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ытайтесь вылечить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шайте его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водит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нсультируют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 проблемы или найдут выход из критической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в безопасном месте и в безопасное время, держа ситуацию под 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Design\portfolio\suicide_present\bor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О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АНИЯ самоубийцы – это ничто иное, как БОРЬБА ЗА ЖИЗНЬ. Потенциальные самоубийцы уже не решают проблемы, они решают, «совершить суицид» или «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утренняя борьба за жиз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ыбирает между «Разрушающим «Я»  и  «Создающим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мневается, совершать самоубийство или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т и рассвет – это критическое время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е выдержу ещё один день» или наоборот «Я не выдержу ещё одну но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«разговоры о времени», для того чтобы отложить решение о самоуби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грает вам на руку. Чем больше времени, тем выше шансы спа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21325800">
            <a:off x="832680" y="685440"/>
            <a:ext cx="57373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йте, какое время суток любит потенциальный самоубий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ттянуть осуществления планов самоубийцы до критического времени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мысли 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разговоры 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обходимо, умоляйте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Е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Design\portfolio\suicide_present\su_2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21325800">
            <a:off x="852120" y="1150560"/>
            <a:ext cx="573732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янит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рассказать план в деталях или просто повтори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объяснить что-то непоня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физические потр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окружающую обстановку (трудности/опас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 rot="21325800">
            <a:off x="277200" y="1960200"/>
            <a:ext cx="6229080" cy="14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АЖ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рока переговоров с потенциальным самоубий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21325800">
            <a:off x="417600" y="532800"/>
            <a:ext cx="60991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у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егайтес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жиданных необъяснимых улучш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роения во время депре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т объясняться решением совершить суиц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обстоятельства не изменились, было принято решение о самоуби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ло принято решение о самоубийстве, его можно изменить, задав вопрос о верности этого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1325800">
            <a:off x="531720" y="906120"/>
            <a:ext cx="59263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уро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одстрекайте, не побуждайте, не подначивайте человека к самоубий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ЕГО СОВЕРШ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21325800">
            <a:off x="531360" y="445680"/>
            <a:ext cx="60184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у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могут с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ы могут с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БИЙ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станет известно, что человек хочет убить кого-то еще, кроме него самого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сь, что эта информация попала в мил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 rot="21325800">
            <a:off x="415800" y="990000"/>
            <a:ext cx="609768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следует позаботиться, встретившись с потенциальным самоубийц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случай если ситуация станет опас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21325800">
            <a:off x="1133280" y="914040"/>
            <a:ext cx="46846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йти (способ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уйти (возмож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уйти (безопасное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 чтобы у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1325800">
            <a:off x="656640" y="609480"/>
            <a:ext cx="56005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окружающей обстановки. Обратите внимани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баррикады/залож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сть к людям или домашним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чу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особы самоубийства/уби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1325800">
            <a:off x="372600" y="38268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УЖ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иметь еще одно орудие самоубийства про запас или самодельное взрывное устройство. (Зажигательная смесь, шрапнель или и то, и друг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можем утверждать, что оружие будет использовано только для суицида. Потенциальный самоубийца может стать и убий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часто носят с собой и используют острые предметы как угрозу причинения вреда себе или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часто носят с собой и используют химические препараты как угрозу причинения вреда себе или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 готовы к сюрприз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 rot="21325800">
            <a:off x="391680" y="54144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роза огнестрельным оруж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йте оружие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йте человека, чтобы отобрать оруж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айте оружие гражданским 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слоняйте оружие к други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ляйте из оружия, чтобы «избавиться от пу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катывайте оружие по земле/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умайте, что у потенциального самоубийцы нет других способов совершить суицид или 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:\Design\portfolio\suicide_present\su_3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856880" y="2071440"/>
            <a:ext cx="5357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Ведущий перегов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тенциальный самоуби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Окружающая об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Ход перего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325800">
            <a:off x="320040" y="398520"/>
            <a:ext cx="62355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возможно, немедленно уходите и вызовите мили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возможно, немедленно эвакуируйте дру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е можете уйти, попросит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нциального самоубийц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пользовать оруж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правлять оружие на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правлять оружие на вас и дру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палец с кур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положить оружие на землю/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йти от оруж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лать «пробных» или «предупреждающих» выстр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айте в милицию обо всех случаях угрозы огнестрельным оружием, даже если все решилось мирным пут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опять использовать оружие, угрожая себе и други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325800">
            <a:off x="464760" y="1371240"/>
            <a:ext cx="6046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важных «ключа» к успешным переговор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отвращение самоубий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трак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ение детал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л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ощ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йств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 rot="21325800">
            <a:off x="441000" y="590040"/>
            <a:ext cx="6046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или письменный ко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глашение, обещание, договорен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само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самоубийство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никаки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план по выяснению деталей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об их неопределё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другие условия спасающие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25800">
            <a:off x="326160" y="132480"/>
            <a:ext cx="63406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о спасе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в устной или письмен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меняться в зависимости от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оценивать ри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одержать ваши действия после спас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быть прост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ши дейст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Объясните план в самом нач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учите всё в дета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лан должен состоять из подпл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едставьте хронологию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Расскажите, кто участвует в пл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зопасность, прежде всего – позвоните в милицию (и психолог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переговор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оспользуйтесь профессиональной помощ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21325800">
            <a:off x="293400" y="990360"/>
            <a:ext cx="634032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для профессиональн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можно, пусть профессионалы поговорят с самоубий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ьте медицинскую и психологиче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помощь других специалистов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урегулирование финансо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1325800">
            <a:off x="543960" y="1750320"/>
            <a:ext cx="572292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РЕМЯ ИСПОЛЬЗОВАТЬ В РАЗГОВОРЕ ЛЮДЯМ, ВЕДУЩИМ ПЕРЕГОВО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ведущие переговоры, должны использ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ОЯЩ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21325800">
            <a:off x="283680" y="777600"/>
            <a:ext cx="5959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В НАСТОЯЩЕМ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говорить 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м и о будущем, но старайтесь осторожно возвращать его к настоящему, к контракту, к плану спасения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е изменить, будущее неизвес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ОЯЩ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вестно и его можно изме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1325800">
            <a:off x="290520" y="1823400"/>
            <a:ext cx="59594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ите расспросами - 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ричиняет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диагноз, лечить, расспрашивать необходимо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опасн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е и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опас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1325800">
            <a:off x="708840" y="464760"/>
            <a:ext cx="5373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вопросов, которые нужно узнать о настоящем момен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росить о мыс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чем ты сейчас думаеш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осить о душевн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сейчас чувствуеш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 физическ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тебя что-нибудь боли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просить о его действ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ты хочешь это сдела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знать о душевн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иши мне твое настроени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1325800">
            <a:off x="488520" y="344160"/>
            <a:ext cx="59468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отенциального самоуби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, жесты,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 внешн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ы или боле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ы могут означ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ошлые попытки суиц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ичинение себе ув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Что самоубийца - жертва или виновник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Употребление наркотиков или 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стояние, приводящее к падениям и ран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329400">
            <a:off x="272160" y="808200"/>
            <a:ext cx="63723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х переговоры необходимо обучать тому, как вести себя с потенциальным самоубийцей в тех или и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щ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м к лиц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лефону или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почты или электронной по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1325800">
            <a:off x="372240" y="1666800"/>
            <a:ext cx="60706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ите принятие алкоголя или медицинских препаратов во время перего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Design\portfolio\suicide_present\priblij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21329400">
            <a:off x="525240" y="1750680"/>
            <a:ext cx="607032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страховку. Предложите страховку потенциальному самоубий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 rot="21329400">
            <a:off x="415080" y="490320"/>
            <a:ext cx="616428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 окружающе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ое движение, пешеходы под местом, выбранным для самоуби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й транспор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ачивание из тол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ий с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ог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ветер и мол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про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про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или высок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мусор под н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21329400">
            <a:off x="634320" y="490680"/>
            <a:ext cx="573084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ругие лю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Оборудование под нога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етер с пес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Шум от воздушного транспор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Холодный ветер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ломанные или расшатанные пери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упкие камн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ровные поверх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Резкие порывы ветр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ож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тицы, насекомы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норируйте предупреждающие знаки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329400">
            <a:off x="634680" y="483480"/>
            <a:ext cx="58784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ледует приближаться к потенциальному самоубийц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е приближение с соблюдением следующих з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прибли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т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ты хочеш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делаеш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кем т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сказал кому-нибудь, что я здес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21329400">
            <a:off x="1114560" y="1042200"/>
            <a:ext cx="4835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й 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подхо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гово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дела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тебя удар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 rot="21329400">
            <a:off x="690480" y="1223280"/>
            <a:ext cx="572616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в эту зо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зоне, обычно, происходит немедленное нападение, без предупрежд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1325800">
            <a:off x="477000" y="1295280"/>
            <a:ext cx="615636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лизко можно подой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те вне расстояния удара н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потенциальный самоубийца может ст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 rot="21325800">
            <a:off x="474480" y="1219320"/>
            <a:ext cx="622908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человеку о своём прибли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йтесь медл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йтесь остор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те зоны прибл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опасностями внешн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1322800">
            <a:off x="326520" y="1239480"/>
            <a:ext cx="609300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первую очередь сказать человеку, который хочет совершить самоубийство и разговаривает с вами по телефо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вдруг нас разъединят, не думай, что это я положил трубку. Как мне связаться с тобой, если связь оборвется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21325800">
            <a:off x="455040" y="566280"/>
            <a:ext cx="62290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для нападения со стороны потенциального самоубий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ое или наркотическое опья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или п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сть или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ен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рас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мешательства в личну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21325800">
            <a:off x="469440" y="701280"/>
            <a:ext cx="622944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меньшить агрессивное по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йдите назад от зон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свои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прощения и скажите, что вы не причинит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«не причинять вам вре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е пойти на у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должен быть план отхода, используйте его сразу, как это будет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1325800">
            <a:off x="480960" y="423720"/>
            <a:ext cx="60501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ОТЕНЦИАЛЬНОГО САМОУБИЙЦ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ПРОСЬБА «Можно мне …, пожалуй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АЯ ПРОСЬБА «Было бы хорошо, если бы я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КА «Я обещаю не совершать самоубийство, если ты...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 «Если ты не дашь мне…, я покончу собой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А «О, пожалуйста, пожалуйста, дайте мне…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говори «нет»… Говори «да», но добавляй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будет слож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21325800">
            <a:off x="531720" y="1060200"/>
            <a:ext cx="589752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рги  с Вашей ст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….., если ты немного отодвинешься от края и останешься 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 …, если ты положишь нож и отодвинешься от не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 …, если ты не будешь глотать эти табл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 rot="21325800">
            <a:off x="487080" y="738000"/>
            <a:ext cx="6153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амоубийство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уйте активную модель переговор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лан спасения, используя прямые при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 скаж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й, не делай этого! Послушай меня, пожалуйста, посмотри на мен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21325800">
            <a:off x="487080" y="738000"/>
            <a:ext cx="6153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 не отклик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ите внимание громкими звуками или же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зрительный конт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те о контракте и плане спас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е дать ещё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вмешательство недопустимо, если эт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е единственное оставшееся средство. Вы должны быть сотрудником отряда милиции (или иметь опыт военного обучения), чтобы проводить таки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21325800">
            <a:off x="835920" y="900000"/>
            <a:ext cx="5808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я мест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закрыть место действия от вмешательств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обходимо убрать лишних людей с места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21325800">
            <a:off x="607680" y="984960"/>
            <a:ext cx="60404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те 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поз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уга/супругу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ственников и друзей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ов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1325800">
            <a:off x="611280" y="1752120"/>
            <a:ext cx="5943600" cy="27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норируйте галлюцинац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 rot="21325800">
            <a:off x="376200" y="1366920"/>
            <a:ext cx="61754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ое спас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ко отрицайте фантазии о чудесном спасении, если потенциальный самоубийца решит совершить суицид ради того, чтобы не упасть в грязь ли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21387600">
            <a:off x="129960" y="683640"/>
            <a:ext cx="64530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прежде всего, нужно сделать, общаясь с потенциальным самоубийце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о нем кому-нибудь или позовите помощ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ообщайте о ходе переговоров и пользуйтесь советами (если вы ведете переговоры по телефону и есть возможность говорить с милицией на другой лини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сь, что подробности переговоров доступны профессионалам (если есть возможност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говорах с потенциальными самоубийцами не должно быть «одиночек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325800">
            <a:off x="561240" y="1587240"/>
            <a:ext cx="59166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дение «на по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ывание способности прыгну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уверены и не одобряйте опасное «поведение на пока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что вы верите его угрозам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говоры на высо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есть и не смотреть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говорите о вашем опасно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о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говорите об опасности вашей активности 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 используйте приспособления для ловли самоубийц (батуты, развернутые простыни, чтобы поймать летящего вниз человека итд). Могут пострадать люди находящиеся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1325800">
            <a:off x="685080" y="2350440"/>
            <a:ext cx="57373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если кто-то все же совершил самоубий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 rot="21325800">
            <a:off x="628200" y="923400"/>
            <a:ext cx="5737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то-то совершил самоубий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 пускайте никого на место траге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храните нетронутыми отпечатки пальцев и другие свидетельства трагедии (оружие, запис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Запишите ваши наблюдения и наблюдения очевид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оверьте, не нуждается ли кто-то в медицинской или психологической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1325800">
            <a:off x="680760" y="2214720"/>
            <a:ext cx="5735520" cy="22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заботиться о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нимаетесь переговорами – общайтесь с группой поддержки. Вы должны заботиться и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21325800">
            <a:off x="627840" y="917640"/>
            <a:ext cx="573732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итаты, которые вам помогу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сегда стою прямо или уже поднимаюсь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аксве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одь Иисус сказ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дите ко Мне все труждающиеся и обремененные, и Я успокою ва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нгелие от Матфея 11: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 rot="21325800">
            <a:off x="290160" y="277560"/>
            <a:ext cx="622944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зор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кому-нибудь о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подойти, иметь наготове план от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ться к неуверенности потенциального самоубий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ь время до прибытия профессиональной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наготове план помощи, спа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в настоящем времени, не пытаться лечить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овать мест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все закончилось – обратитес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 rot="21325800">
            <a:off x="298440" y="923400"/>
            <a:ext cx="62294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экстренны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е с человеком в качестве профилак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возможную помощь профессио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профессиона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о помощи профессио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жды проверьте, успели ли профессионалы вовремя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D:\Design\portfolio\suicide_present\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1325800">
            <a:off x="896400" y="1486080"/>
            <a:ext cx="515484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потенциальным самоубийцей может состо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го приглаш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игла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запланированное 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1325800">
            <a:off x="873000" y="1142640"/>
            <a:ext cx="5051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находиться в состоя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жд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21325800">
            <a:off x="845640" y="909360"/>
            <a:ext cx="505152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ужно сделать в самом начале переговоров с потенциальным самоубийц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убедить человека не совершать суицид прямо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обходимо сделать даже раньше, чем вы представитесь и войдёте в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вый</cp:lastModifiedBy>
  <dcterms:modified xsi:type="dcterms:W3CDTF">2009-07-14T06:5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